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581-7E02-4930-B46F-17623356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3C5-5D38-479F-9D29-54B299E5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D81-1609-40CD-9F82-D3CF430C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5BD-7F9F-4D5D-BBB8-DACB57C8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1FF9-7470-46C0-AEF5-1C0928D1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6B99-3950-47EE-AD9C-7441A43C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4797-0705-40EC-AA7A-C2205421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853E-B1B6-47B5-8831-DD96D576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130D-8521-4B4C-BE50-46CD1CE8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6FFD-1729-4DD6-981F-23148385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0A4E-2CE3-4158-908D-08EC710C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0A5-7B90-4AE0-A3DA-90FD5106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9161-A484-45B8-A957-0E1DE717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B0A3-C771-4FF6-9F0E-3B03A21E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8F8B-2134-4D69-858D-701C6AAD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1CD5-8A10-4E3C-A789-BD80701E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9C0E-45CA-4627-90D9-DADB9727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4235C-FF0E-41BF-B4C8-430AE03C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DABEC-50A0-4632-92B6-07BF6069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795D7-5F22-4CD6-AEE6-3481F895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C0259-5A43-487B-AC5C-AA30007E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FA10B-DEAD-4ED0-A432-60ED3F43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583-8648-409A-90E4-57D53114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8DC31-5A25-4CC9-9A1E-DE429ADC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E3E71-E8A3-462D-A9DB-1247A4DC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EFD84-85E7-4DF0-9459-73403A9A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3548D-489C-440B-B760-B0355A1A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032D3-7B7E-4246-983E-1106D255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9ADE2-F4AD-48F0-9DF7-0885D054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3C9E4-E72E-488A-A14F-42DBAA22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C45F15-047D-4C7B-90F0-84C85F0A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66C89D-9F87-4633-84D7-36CFD51B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6C31C5-FAE8-4AFA-A87D-5E25D400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B5B-6E55-4E33-9D27-D4A26212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48F28E-8EF1-492A-A54D-F42D9EC1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AF060D-CD8F-4DE5-AA70-B9D208F5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86DA1-3D77-4C90-BF12-5EF1FB8C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7E4CC3-9C45-45E9-827D-C1BB6E34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175D6-0E73-4154-B4FE-6572D780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B88F22-4941-4486-84B0-91373541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696619-CF20-45D1-8DF6-F3133978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E63FB-69A5-4D07-BA41-F70FFBDD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86C232-7C1C-4967-81E9-A3B86239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1701A-513E-4247-97A8-DFCB3410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CD6-1896-464B-A40B-60A46E78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AF3FFA-D092-4AD2-B8C0-D81F8FF6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0FC53-4497-4E40-9CF4-CB30B535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06AD6-0350-49C5-85C7-4379211D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77112-20D9-40F2-A865-0BB7C8CE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087BE-2413-420C-900A-BE7262E0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61555-8447-4A69-BB76-7AE582CB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8B09B5-04BC-40F6-A3FD-8CCC1AF3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761B30-F578-498E-900D-69482867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8F78F-631D-4206-96EE-C68A4430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B50E9-6C6C-4BC1-8541-A35165F5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D70-B303-4FD0-BA03-79FFCA1B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8F994-3725-4482-B9B3-6622DF64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FD7FF-7FD4-4E42-9973-F91F5816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C2B6A-258B-4EFA-AEE4-F83F6098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3A072-EF26-4314-B6E3-9B1493BB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58393-B01B-4046-B35A-DDC79EF7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AE1CA-5EBC-49CB-B9AA-F4390559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A0455-C349-4775-8757-3FEFB1E0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CD228-8F01-42C1-A607-586CF64F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4EAE0-C70B-41F5-B8A9-3C1881CC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98ECC-6222-4744-9125-A084ECD9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4B5-689A-4540-A7B0-388B501C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CC67B-6CD2-4066-A749-699C1FE1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BE04D-6210-48A1-AA2A-2ADBC41F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38828-25AA-4AC3-8A28-088A5300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A8F42-12F4-4E19-BD60-715FF6EC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0FD5EF-72FE-4BE5-9CCA-33CA4D1E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B5339-7D26-4A75-812D-E559376C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77586A-DD00-4EBD-8F15-77BD4209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1B9D93-07B5-4AEC-85F5-49065627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479B19-4EB8-46FE-AA9B-379EEAAB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5A4B67-2DD8-4DC4-B3D9-D09D7214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F8F-BF5C-4B48-B6ED-EC18B263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47A9B-CAA8-473F-AFBA-4F452F62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6DA3B9-1B97-46E9-9302-197433DB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54B9C9-E0CE-48C3-AE53-9736A340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C22FD7-911D-45B2-B742-C96CC4F1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0C446-5588-4CDF-889B-89048741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468D6-71A5-40BE-851F-7A6EFCF0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0FCB4-EDBB-428B-83C4-873B2196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FA233-7A70-4FDC-9DA1-69195EBA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24E72-1BC1-4909-80B2-6CC863C6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CE38B-2583-4340-8AF9-3C5ED605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D18-BBF6-4B05-8DB9-56215538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C176A-A2F7-415D-A2AD-A9CA7B12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34906-501A-4F34-A3EA-E9491308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28D90-6E7A-4B4E-BBE3-2F9A2CFA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D9BED-BA81-4827-B965-65E7A411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ABA29-7F7F-4EB8-AAA5-DA7FE890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286D6-5D28-422C-9B12-DCBA2119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02918-C729-46C6-9609-BAD82FB4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F8F3-01AA-45F9-BD71-FCFDA3AC0D4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0C1D-2CEA-4EF7-AD92-23176532E524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8C27-424E-43FF-A8A5-99B92DEE8A99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0EE3-0383-493D-BD3E-8572F71A363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136F-BF60-49BF-B746-9C69FE1F5C7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0501-9913-4709-900D-5EF64D1F4AD0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5872-FB27-42FA-ABD6-8767B335B4DA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18F5-8421-4AB9-B59C-5314FEBF691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OURSECAST:USER BASIC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ornwall-Lebanon Technology Servic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2371680" y="426960"/>
            <a:ext cx="3925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Add a Class/Le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480" y="18288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Select 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Add New Lecture 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(bottom right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rcRect l="21876" t="32293" r="17968" b="31250"/>
          <a:stretch/>
        </p:blipFill>
        <p:spPr>
          <a:xfrm>
            <a:off x="380880" y="2362320"/>
            <a:ext cx="8213760" cy="37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8" name="Rectangle 5"/>
          <p:cNvSpPr/>
          <p:nvPr/>
        </p:nvSpPr>
        <p:spPr>
          <a:xfrm>
            <a:off x="7086600" y="5257800"/>
            <a:ext cx="12952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Add a Course/Le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22655" t="30212" r="18750" b="28125"/>
          <a:stretch/>
        </p:blipFill>
        <p:spPr>
          <a:xfrm>
            <a:off x="1295280" y="3048120"/>
            <a:ext cx="6477120" cy="345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81" name=""/>
          <p:cNvSpPr txBox="1"/>
          <p:nvPr/>
        </p:nvSpPr>
        <p:spPr>
          <a:xfrm>
            <a:off x="609480" y="18288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Type the name of the lecture-Ex. Ancient Egyp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Click on 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Record to New Lec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5943600" y="5638680"/>
            <a:ext cx="12952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Available Devi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167616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Left side of the screen displays all available devices for the Coursec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Devices include cameras, audio inputs, screen capture, power point and remote devi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Click on the device(s) you wish to use in your record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CLSD teachers should include a microphone (audio), a camera (video)and PowerPoint in their sel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5" name="Picture 10" descr=""/>
          <p:cNvPicPr/>
          <p:nvPr/>
        </p:nvPicPr>
        <p:blipFill>
          <a:blip r:embed="rId1"/>
          <a:srcRect l="23438" t="27087" r="63282" b="19793"/>
          <a:stretch/>
        </p:blipFill>
        <p:spPr>
          <a:xfrm>
            <a:off x="7010280" y="1523880"/>
            <a:ext cx="1712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Aud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599840"/>
            <a:ext cx="8531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Choose your audio device and test it by using the Audio Level Meter provided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6" descr=""/>
          <p:cNvPicPr/>
          <p:nvPr/>
        </p:nvPicPr>
        <p:blipFill>
          <a:blip r:embed="rId1"/>
          <a:srcRect l="21876" t="34326" r="41406" b="32293"/>
          <a:stretch/>
        </p:blipFill>
        <p:spPr>
          <a:xfrm>
            <a:off x="1371600" y="2514600"/>
            <a:ext cx="603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7: Vide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599840"/>
            <a:ext cx="8531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13480" indent="-213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Choose your video device (webcam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The first video source you select will be the main video during playback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PPT Sel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1599840"/>
            <a:ext cx="8766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To include PowerPoint presentations in your recording, click on the PowerPoint device in the left-hand column and it will open a box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This box will allow you to open a .ppt file or, if PowerPoint is already running, allow you to include the presentation that is open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rcRect l="22655" t="54311" r="50109" b="26767"/>
          <a:stretch/>
        </p:blipFill>
        <p:spPr>
          <a:xfrm>
            <a:off x="4191120" y="4038480"/>
            <a:ext cx="4678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7:Start a Recor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rcRect l="21345" t="27121" r="17639" b="18647"/>
          <a:stretch/>
        </p:blipFill>
        <p:spPr>
          <a:xfrm>
            <a:off x="1523880" y="2514600"/>
            <a:ext cx="6172200" cy="4114800"/>
          </a:xfrm>
          <a:prstGeom prst="rect">
            <a:avLst/>
          </a:prstGeom>
          <a:ln w="0">
            <a:noFill/>
          </a:ln>
        </p:spPr>
      </p:pic>
      <p:sp>
        <p:nvSpPr>
          <p:cNvPr id="396" name="Content Placeholder 2"/>
          <p:cNvSpPr/>
          <p:nvPr/>
        </p:nvSpPr>
        <p:spPr>
          <a:xfrm>
            <a:off x="0" y="1600200"/>
            <a:ext cx="876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Once you are satisfied with the devices you will be using, click on "Start Recording" to begin the record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1676520" y="3276720"/>
            <a:ext cx="914400" cy="304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1"/>
          <a:srcRect l="21876" t="33337" r="36722" b="20832"/>
          <a:stretch/>
        </p:blipFill>
        <p:spPr>
          <a:xfrm>
            <a:off x="2057400" y="2859120"/>
            <a:ext cx="4724280" cy="3922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8:Stop a Recor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Content Placeholder 2"/>
          <p:cNvSpPr/>
          <p:nvPr/>
        </p:nvSpPr>
        <p:spPr>
          <a:xfrm>
            <a:off x="0" y="1600200"/>
            <a:ext cx="876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Once you have completed your lecture, click on the "End Recording" button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You will then be taken automatically to the "Manage Recordings" ta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2133720" y="3124080"/>
            <a:ext cx="1066680" cy="304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9: Manage Recordin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0" y="1600200"/>
            <a:ext cx="876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The Manage Recordings window will sh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  <a:ea typeface="Arial"/>
              </a:rPr>
              <a:t> 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  <a:ea typeface="Arial"/>
              </a:rPr>
              <a:t>Recordings that are currently up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  <a:ea typeface="Arial"/>
              </a:rPr>
              <a:t>The Status/Link column show if the recording either the current status (processing, encoding,..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  <a:ea typeface="Arial"/>
              </a:rPr>
              <a:t>The viewable link once it'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0:Share a Recor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Content Placeholder 2"/>
          <p:cNvSpPr/>
          <p:nvPr/>
        </p:nvSpPr>
        <p:spPr>
          <a:xfrm>
            <a:off x="0" y="1600200"/>
            <a:ext cx="876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371600" y="2971440"/>
            <a:ext cx="7122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5f55"/>
                </a:solidFill>
                <a:latin typeface="Tw Cen MT"/>
              </a:rPr>
              <a:t>Developed at Carnegie Mellon Universit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5f55"/>
                </a:solidFill>
                <a:latin typeface="Tw Cen MT"/>
              </a:rPr>
              <a:t>Product of years of advanced research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5f55"/>
                </a:solidFill>
                <a:latin typeface="Tw Cen MT"/>
              </a:rPr>
              <a:t>Harnesses video, capture, stream, search and archival technologies in one packag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5f55"/>
                </a:solidFill>
                <a:latin typeface="Tw Cen MT"/>
              </a:rPr>
              <a:t>The Panopto team includes industry leading researchers and developer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About Panop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Carefully select a topic within your curriculum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Think about “visual impact” and benefits of the data to be shared with the audienc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Step 1: Select a Topic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122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Organize your main ideas ahead of tim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Generate a list of key ideas and concepts you wish to discuss during your sessio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Other thoughts can be added “off the cuff” during the sessio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Step 2:Create a Scrip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Laptop with Panoto Software install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Webc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Clicker (optional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77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"/>
              </a:rPr>
              <a:t>Step 3: Equipment/Software Check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Connect to the Serv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09480" y="1588680"/>
            <a:ext cx="8305920" cy="10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Go to Start </a:t>
            </a:r>
            <a:r>
              <a:rPr b="0" lang="en-US" sz="2400" spc="-1" strike="noStrike">
                <a:solidFill>
                  <a:srgbClr val="775f5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 Programs </a:t>
            </a:r>
            <a:r>
              <a:rPr b="0" lang="en-US" sz="2400" spc="-1" strike="noStrike">
                <a:solidFill>
                  <a:srgbClr val="775f5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Panopto </a:t>
            </a:r>
            <a:r>
              <a:rPr b="0" lang="en-US" sz="2400" spc="-1" strike="noStrike">
                <a:solidFill>
                  <a:srgbClr val="775f5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Panopto Recorder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Click on the Settings tab to log in to the CourseCast server.</a:t>
            </a:r>
            <a:br>
              <a:rPr sz="1400"/>
            </a:b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rcRect l="21876" t="21875" r="17968" b="28125"/>
          <a:stretch/>
        </p:blipFill>
        <p:spPr>
          <a:xfrm>
            <a:off x="1219320" y="2514600"/>
            <a:ext cx="64785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64" name="Rectangle 5"/>
          <p:cNvSpPr/>
          <p:nvPr/>
        </p:nvSpPr>
        <p:spPr>
          <a:xfrm>
            <a:off x="4191120" y="2666880"/>
            <a:ext cx="91440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Connect to the Serv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09480" y="1588680"/>
            <a:ext cx="830592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Enter the CourseCast Server name, Login, and Pass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Click on the Verify button. 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Click Save at the bottom of the Settings screen.</a:t>
            </a:r>
            <a:br>
              <a:rPr sz="1400"/>
            </a:b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rcRect l="22585" t="33199" r="35673" b="49828"/>
          <a:stretch/>
        </p:blipFill>
        <p:spPr>
          <a:xfrm>
            <a:off x="762120" y="3429000"/>
            <a:ext cx="7243560" cy="220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Add a Class/Le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rcRect l="21876" t="25000" r="17968" b="39587"/>
          <a:stretch/>
        </p:blipFill>
        <p:spPr>
          <a:xfrm>
            <a:off x="609480" y="2666880"/>
            <a:ext cx="7937640" cy="350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0" name=""/>
          <p:cNvSpPr txBox="1"/>
          <p:nvPr/>
        </p:nvSpPr>
        <p:spPr>
          <a:xfrm>
            <a:off x="609480" y="1828800"/>
            <a:ext cx="83059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Create New Recording 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Tab</a:t>
            </a:r>
            <a:r>
              <a:rPr b="0" lang="en-US" sz="2400" spc="-1" strike="noStrike">
                <a:solidFill>
                  <a:srgbClr val="775f55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Add a Class</a:t>
            </a:r>
            <a:br>
              <a:rPr sz="1400"/>
            </a:br>
            <a:r>
              <a:rPr b="1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762120" y="5029200"/>
            <a:ext cx="99036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Add a Class/Le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rcRect l="21876" t="31250" r="39844" b="50005"/>
          <a:stretch/>
        </p:blipFill>
        <p:spPr>
          <a:xfrm>
            <a:off x="1371600" y="3048120"/>
            <a:ext cx="622296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4" name=""/>
          <p:cNvSpPr txBox="1"/>
          <p:nvPr/>
        </p:nvSpPr>
        <p:spPr>
          <a:xfrm>
            <a:off x="609480" y="18288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Enter a 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Class Name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: Histo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Enter an 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Identifier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: Chapter 1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8:08:46Z</dcterms:created>
  <dc:creator>nschomp</dc:creator>
  <dc:description/>
  <dc:language>en-US</dc:language>
  <cp:lastModifiedBy>nschomp</cp:lastModifiedBy>
  <dcterms:modified xsi:type="dcterms:W3CDTF">2008-10-15T14:43:51Z</dcterms:modified>
  <cp:revision>26</cp:revision>
  <dc:subject/>
  <dc:title>Coursecast:user basics</dc:title>
</cp:coreProperties>
</file>