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870-FA51-4D0F-BD78-7C61ECF2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334-333A-4B6D-A8C7-B0EA9ADA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B2B-9F43-4AA6-93F3-C207FA72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7A0-15F9-4D3D-8007-46A16874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7E4-CEB8-494A-9423-82A44AF0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44F-0442-44C8-BD49-2B718954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88B-0E7F-49D8-903E-0AB29385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08F0-74A0-4E99-BF4E-5697A4EF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578A-6485-4778-9AFF-AD21E07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816-0F25-44A5-A0DC-F4D3508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3250-65CB-47C7-B4DD-EF21DC3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06A-46ED-4E35-9092-7171BF29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0735-1198-4DDC-9312-9E3DDD3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BEDF-D492-4CE1-B448-6A07D45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63D-D2B4-4BE2-98EB-B23F5EF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6057-DAAE-455A-A8C9-B3B700FA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BC3B-EDB3-41DE-8AE1-87B1D552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01D01-84F7-4B01-895B-3B939E09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42F86-DFDD-40FF-AAF5-2481EDA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C1CDA-F141-4C75-A1B9-75473701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17C34-03E8-47EB-B533-0967DDA4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E0FE4-D3F9-4B5A-816D-A1B7834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7D6-7EE2-41B3-B31C-95A60DB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C57EB-C61A-4DB1-A4B3-7C09F463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6A5CE-D745-4FD4-8DAC-80686B3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DA1EB-B181-41CD-8A39-9D1D338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22ED8-DA6C-4BDA-8061-6F67948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22B0D-9CA3-4229-9611-4BFED5A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60B43-74DA-4610-9272-DD370C49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69EA2-BA50-495D-97D6-3704A63B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F7379-0FDA-4BE5-889D-25C85F1B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C904E-668F-4831-A11C-FD55F01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B1B97-114A-4846-B7B1-F407040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104-005D-4941-8A3A-18BD881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EE0F9-3F62-4C79-B42F-9CA6BBE5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FD5AB-E674-46DE-B588-259A7E8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F79BD-679D-48D8-9515-C57A4D7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515D2-2194-4D1D-9A73-0169B10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9042E-C665-4127-97CC-CD4935A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12FE3-D58D-43CB-A415-C2992D6B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AD2F3-67FD-4412-891A-0571062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69CC3-D91A-4E53-9D72-70ED2653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2DF6A-89C4-4CA1-AAD1-306D68A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3F3D3-498F-495F-9003-5F5159FA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B25-AA42-487B-973D-CE25CAD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D72ED-9822-47DB-967C-6DEE18DF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4D174-84FE-44A2-AC3B-56261E4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F2F58-0321-499D-A01B-B4A983E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E2752-51F6-4628-B47B-346548FB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3C9F5-00D1-4D5D-91D3-A500434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CAB97-80A8-437A-B804-618CF51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130C1-645D-4C30-AE67-C4527FD2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4F891-A105-4447-A39A-976AE1A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C0E7A-7D65-4728-87ED-A5271EEF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BE966-505B-40FC-A84B-9597A40F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7E8-FDDD-439B-8003-6F059D36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6260F-1771-45DD-8759-A504AE7F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8187-834E-428B-B7C6-91A146D8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EBEA-F027-4EAE-8F9F-CDC88F1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0B4BA-50C2-48AE-BBD6-9F14E116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F386-FDFC-41BD-9FDA-467B040C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8073-2A14-45C0-9DD6-0FF414A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8D48B-BA7A-4AF3-8FBD-22C34E4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2DDB-66E7-4A98-8FEE-A754CDB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73D9-F25F-40DA-9203-08C7A86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C19C-0338-4B76-BA5E-5AEFF81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5EC-6662-4B14-9763-37C72AF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5A13-E8AC-4780-9758-CCF817A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43B13-2A07-4022-A63C-11147EAF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83812-E8F7-47C9-8C98-A1145C25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B6B04-E616-41EE-B8E9-A0DA4A6A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2633D-9C53-47D7-B525-792039C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DE204-8452-42BC-BF12-A28B962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4CFBB-25C3-4087-BCA4-B367BE24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99C5B-5580-465E-A53B-DDA0093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4121E-886C-4A32-8888-6889F8F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294E2-E5BE-4C30-8B20-78A6825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4E5-0A80-4120-A41A-54104C7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9420D-023B-481A-9BBA-5BFD96C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03DD6-8F05-4C38-AA9B-9988216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259BC-29AD-4E2B-AF05-0CCEBEAD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7BEC1-7CC0-48F7-B632-766FB84A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368DE-900D-4891-92A2-18ED396E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A9CD4-838D-414D-A551-A7AD54DA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81F5D-9843-4D0B-9131-E7EC7DC6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6FD4E-AB34-4AD3-BA6E-B45D91E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734EF-01D5-4EE2-97FB-83DE618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51D6-E7F5-48DF-974F-A077BAE4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5BA-92D4-4C79-9658-D1F5551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66637-AC58-43CE-9940-F36DAA77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FE15C-05D3-4B7C-B82B-2F0E51C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1E620-6A07-4CD4-8031-A99991F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D6FC-2840-4BA6-B8BB-9FEF2B02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B491-9C24-41B7-B3F3-310091C4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BE79-5225-4A13-AF62-23978827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BCF1A-9735-410B-9EB7-5B628522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3C91-1FF5-4C96-AB2A-06578FC508D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AD05-32FD-44E4-B615-267AFD43CDD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C949-CF39-43C4-8D64-E5D56052F07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5664-03F8-40D5-8118-DDA402A15D5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5C12-A1AD-435A-B1E6-BD89CFDC964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D57C-82AA-4F11-A4F2-0E982C7F643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07B-7B71-41D0-9B90-B9D262B5C95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28D-E920-48B7-B5A7-8D9902E259D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OURSECAST:USER BASIC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ornwall-Lebanon Technology Servic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2371680" y="426960"/>
            <a:ext cx="392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lect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New Lecture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bottom righ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21876" t="32293" r="17968" b="31250"/>
          <a:stretch/>
        </p:blipFill>
        <p:spPr>
          <a:xfrm>
            <a:off x="380880" y="2362320"/>
            <a:ext cx="8213760" cy="37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8" name="Rectangle 5"/>
          <p:cNvSpPr/>
          <p:nvPr/>
        </p:nvSpPr>
        <p:spPr>
          <a:xfrm>
            <a:off x="7086600" y="525780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ourse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22655" t="30212" r="18750" b="28125"/>
          <a:stretch/>
        </p:blipFill>
        <p:spPr>
          <a:xfrm>
            <a:off x="1295280" y="3048120"/>
            <a:ext cx="6477120" cy="345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1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ype the name of the lecture-Ex. Ancient Egyp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Record to New Le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943600" y="563868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vailable De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6761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Left side of the screen displays all available devices for the Coursec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Devices include cameras, audio inputs, screen capture, power point and remote dev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ick on the device(s) you wish to use in your recor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SD teachers should include a microphone (audio), a camera (video)and PowerPoint in their se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rcRect l="23438" t="27087" r="63282" b="19793"/>
          <a:stretch/>
        </p:blipFill>
        <p:spPr>
          <a:xfrm>
            <a:off x="7010280" y="1523880"/>
            <a:ext cx="171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ud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audio device and test it by using the Audio Level Meter provid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rcRect l="21876" t="34326" r="41406" b="32293"/>
          <a:stretch/>
        </p:blipFill>
        <p:spPr>
          <a:xfrm>
            <a:off x="1371600" y="2514600"/>
            <a:ext cx="60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 Vide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video device (webcam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e first video source you select will be the main video during play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PPT Sel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599840"/>
            <a:ext cx="8766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o include PowerPoint presentations in your recording, click on the PowerPoint device in the left-hand column and it will open a box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is box will allow you to open a .ppt file or, if PowerPoint is already running, allow you to include the presentation that is ope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rcRect l="22655" t="54311" r="50109" b="26767"/>
          <a:stretch/>
        </p:blipFill>
        <p:spPr>
          <a:xfrm>
            <a:off x="4191120" y="4038480"/>
            <a:ext cx="4678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Start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21345" t="27121" r="17639" b="18647"/>
          <a:stretch/>
        </p:blipFill>
        <p:spPr>
          <a:xfrm>
            <a:off x="1523880" y="251460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nce you are satisfied with the devices you will be using, click on "Start Recording" to begin the record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676520" y="3276720"/>
            <a:ext cx="91440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rcRect l="21876" t="33337" r="36722" b="20832"/>
          <a:stretch/>
        </p:blipFill>
        <p:spPr>
          <a:xfrm>
            <a:off x="2057400" y="2859120"/>
            <a:ext cx="4724280" cy="3922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8:Stop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Once you have completed your lecture, click on the "End Recording" button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You will then be taken automatically to the "Manage Recordings" t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133720" y="3124080"/>
            <a:ext cx="106668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9: Manage Recordin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he Manage Recordings window will s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Recordings that are currently up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Status/Link column show if the recording either the current status (processing, encoding,.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viewable link once it'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0:Share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371600" y="2971440"/>
            <a:ext cx="7122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Developed at Carnegie Mellon Universit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Product of years of advanced resear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Harnesses video, capture, stream, search and archival technologies in one packag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The Panopto team includes industry leading researchers and develope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About Panop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arefully select a topic within your curriculu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ink about “visual impact” and benefits of the data to be shared with the audienc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1: Select a Top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122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rganize your main ideas ahead of ti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Generate a list of key ideas and concepts you wish to discuss during your ses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ther thoughts can be added “off the cuff” during the sessio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2:Create a Scrip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Laptop with Panoto Software install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bc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licker (optional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77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Step 3: Equipment/Software Check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480" y="1588680"/>
            <a:ext cx="8305920" cy="10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Go to Start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 Programs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Record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Settings tab to log in to the CourseCast server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1876" t="21875" r="17968" b="28125"/>
          <a:stretch/>
        </p:blipFill>
        <p:spPr>
          <a:xfrm>
            <a:off x="1219320" y="2514600"/>
            <a:ext cx="64785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4" name="Rectangle 5"/>
          <p:cNvSpPr/>
          <p:nvPr/>
        </p:nvSpPr>
        <p:spPr>
          <a:xfrm>
            <a:off x="4191120" y="2666880"/>
            <a:ext cx="9144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1588680"/>
            <a:ext cx="83059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the CourseCast Server name, Login, and Pass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Verify button. 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Save at the bottom of the Settings screen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22585" t="33199" r="35673" b="49828"/>
          <a:stretch/>
        </p:blipFill>
        <p:spPr>
          <a:xfrm>
            <a:off x="762120" y="3429000"/>
            <a:ext cx="724356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21876" t="25000" r="17968" b="39587"/>
          <a:stretch/>
        </p:blipFill>
        <p:spPr>
          <a:xfrm>
            <a:off x="609480" y="2666880"/>
            <a:ext cx="793764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0" name=""/>
          <p:cNvSpPr txBox="1"/>
          <p:nvPr/>
        </p:nvSpPr>
        <p:spPr>
          <a:xfrm>
            <a:off x="609480" y="1828800"/>
            <a:ext cx="83059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reate New Recording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ab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a Class</a:t>
            </a:r>
            <a:br>
              <a:rPr sz="1400"/>
            </a:br>
            <a:r>
              <a:rPr b="1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762120" y="5029200"/>
            <a:ext cx="9903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21876" t="31250" r="39844" b="50005"/>
          <a:stretch/>
        </p:blipFill>
        <p:spPr>
          <a:xfrm>
            <a:off x="1371600" y="3048120"/>
            <a:ext cx="62229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4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lass Name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Identifier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Chapter 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08:46Z</dcterms:created>
  <dc:creator>nschomp</dc:creator>
  <dc:description/>
  <dc:language>en-US</dc:language>
  <cp:lastModifiedBy>nschomp</cp:lastModifiedBy>
  <dcterms:modified xsi:type="dcterms:W3CDTF">2008-10-15T14:43:51Z</dcterms:modified>
  <cp:revision>26</cp:revision>
  <dc:subject/>
  <dc:title>Coursecast:user basics</dc:title>
</cp:coreProperties>
</file>