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9F9-34DF-4323-A8F5-E591ABDC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F40-B7A3-4096-9501-6516B32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A72-42E9-4175-A777-2F99BA49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BC7-46E9-47D4-B6EC-9427675B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0070-96AD-47B6-A547-5A7C3126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999A-716A-4FAD-A1EC-4268C3F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B1A8-6B65-419E-811D-01893B27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2F9-80D1-4F24-BB35-5F97A48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FC3-A4D3-4F35-9CB4-67D5923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9936-1ABD-4C14-BA69-4F54F1A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B3A-6138-4B9E-B6C2-525B20C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304-6339-4CDF-83C9-732341CA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FA6-DA2E-4DB3-95ED-66AD62E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52A-7A7B-4AF5-920E-83CCCA0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BCEB-FE44-484A-B372-7C97982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DADA-18C1-460D-818E-A605FCAC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8BAE-E818-4F81-B07F-C392EE8D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2C770-6830-48FF-9818-905D8264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779FC-072E-4562-93D0-872521B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60979-BB5E-48CE-862C-2488B58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29883-1BE4-4FD5-A3BE-1295B58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4DD4F-5510-45BC-9FE8-BBF84DC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F45-A2D3-484F-ACE3-B0DF8C0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3A8B2-4174-4D6F-9E92-81A0A297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4A92E-9E02-4F7F-8180-B47A9F3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83F43-47AB-4166-A793-3B7C533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955D6-1C0D-4810-A67B-0210A87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39234-1E75-48B1-B7DF-28F85F5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AFC33-0706-4283-9987-F4DB9636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2D80E-E1D8-4D5E-8E66-FBD59807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1C883-48EC-432F-A903-5D436F0B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34C9B-9630-47A6-8C6C-FF7CD55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99191-CE37-45DF-9F2F-C5111B6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485-31DF-4EFD-9208-FD289D3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5FE60-8F38-4CFC-A380-B61E5EF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4089B-83C3-4728-87AB-DF67B3E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95688-FD83-484C-9822-29A706E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2BBAD-0A2A-4215-9349-3814494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1334C-23C1-425E-BF4B-3B0C2C9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5F2CB-7CC5-49D0-9E40-8722C84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D2B90-E5B0-4E54-B482-D25C0E2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293D6-A77B-4438-9B3D-F24F447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F12DE-F2A8-4764-89B6-710151E9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8DD9E-7473-4A41-9FB3-81E10635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46A-7CF0-43D4-AB72-7F0271B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3DEF2-32B6-4DF8-BB96-E8C78E4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223E5-B2E0-476B-A0F4-090B08B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6813F-78A2-4F61-816F-52EC62E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1496C-FA69-451D-A090-F4EDE4AA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D546B-5D63-43CE-8DD5-70BEE69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1E258-8DC3-411B-85D4-78C0F7D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A96F0-EC0A-4BE5-B4AC-BAA541E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FA56F-8342-4F60-A75E-6FA223F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08B5F-62E0-4E99-B6A0-5CBC044F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45E17-7E09-4A75-A39B-75B211F3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B7D-97A2-4AC7-91AF-123B681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7CDE0-1D78-422A-A1A3-C840E83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B88A-A6D5-4576-85A0-B9D13650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900C-5A5D-4580-80CC-0B4D383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B21C-EEB2-4713-BF9D-6268190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3A08-FD0D-4DD5-955A-E0E0003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CFA6-DA62-4E1C-A20A-C417370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11101-F04D-4BAB-8C8F-5E0CD986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8F0B-881E-44DB-A4DE-6A87895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DA49-9D78-4A98-974C-124E2D5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C77E7-40F5-4401-B786-94009C3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6A7-FB33-4510-9878-EBE62EB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E27A-475B-4AB9-A90D-9DFAB029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39D4-5910-4522-9E5A-3D546174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737E-9F6D-4C54-B6E9-4381EC11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BA31C-9921-4E40-A7BF-62ACBFDE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69161-D2A7-4924-B283-64FBD87E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30AD4-BA11-4D90-BCD2-717359E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5F032-7F0E-4A72-BB3B-9F021546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1785E-7C25-4794-B3A9-C57E687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01C8D-0297-46CB-9BBE-F309B8F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85460-9B97-40BE-B159-D427D47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95A-0005-4259-8CB1-B24E31C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264DB-06B7-4838-BAFF-58133F7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EE5CA-E057-48C8-B4EA-A073F68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873C8-98C3-4C71-AD62-6E0FAEFF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45B38-F591-4F59-ACFA-315C231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472AD-4652-45A5-8D5D-53F2F3C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8BC8-D9B4-490A-B9B2-5A9E5F5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B92B-0F0C-4D18-904C-5C14FAD5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0FB2-3CCB-4244-92F9-9CBE7579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89B0-EFDA-47CA-B709-584DA5E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7390-946F-402F-A5B8-AA88E15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B82-834B-4882-BA9A-710DE7E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749E-7E69-4709-A38A-ECDAE81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E45E-2EB1-47D5-A8E2-1140C81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FC757-3EEC-4C39-966D-52A80EFB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54427-D99A-4755-B5D3-673B41B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F851-A31A-4C69-A26D-D5F9809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DBCE-A5DB-4B2A-807F-9B05E45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CF8F-F055-41F4-AFBD-194EE788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1EEA-FA52-4926-8487-8B3E4DBDCF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CE9-6905-4750-BA4D-E4E8EA61B73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3FC-1E15-40BA-BC47-4D11B62F6EC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15F0-56BF-4785-A4E1-979BFC51B2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E4C-98AD-4AEA-9ADF-B3122057DCD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9F33-C3F4-423A-B954-2FE6F47BB4B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7C7C-7261-4E54-AD00-BCDDEAE4740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1CD-BF0F-4EB3-863C-F5AEAF2428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OURSECAST:USER BASIC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ornwall-Lebanon Technology Servi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2371680" y="426960"/>
            <a:ext cx="392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lect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New Lecture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bottom righ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1876" t="32293" r="17968" b="31250"/>
          <a:stretch/>
        </p:blipFill>
        <p:spPr>
          <a:xfrm>
            <a:off x="380880" y="2362320"/>
            <a:ext cx="8213760" cy="37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Rectangle 5"/>
          <p:cNvSpPr/>
          <p:nvPr/>
        </p:nvSpPr>
        <p:spPr>
          <a:xfrm>
            <a:off x="7086600" y="525780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ourse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22655" t="30212" r="18750" b="28125"/>
          <a:stretch/>
        </p:blipFill>
        <p:spPr>
          <a:xfrm>
            <a:off x="1295280" y="3048120"/>
            <a:ext cx="6477120" cy="345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1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ype the name of the lecture-Ex. Ancient Egyp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Record to New Le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943600" y="563868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vailable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761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Left side of the screen displays all available devices for the Coursec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evices include cameras, audio inputs, screen capture, power point and remote de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ick on the device(s) you wish to use in your recor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SD teachers should include a microphone (audio), a camera (video)and PowerPoint in their 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rcRect l="23438" t="27087" r="63282" b="19793"/>
          <a:stretch/>
        </p:blipFill>
        <p:spPr>
          <a:xfrm>
            <a:off x="7010280" y="1523880"/>
            <a:ext cx="171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ud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audio device and test it by using the Audio Level Meter provid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rcRect l="21876" t="34326" r="41406" b="32293"/>
          <a:stretch/>
        </p:blipFill>
        <p:spPr>
          <a:xfrm>
            <a:off x="1371600" y="2514600"/>
            <a:ext cx="60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 Vid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video device (webcam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e first video source you select will be the main video during play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PPT Se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599840"/>
            <a:ext cx="8766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o include PowerPoint presentations in your recording, click on the PowerPoint device in the left-hand column and it will open a box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is box will allow you to open a .ppt file or, if PowerPoint is already running, allow you to include the presentation that is op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rcRect l="22655" t="54311" r="50109" b="26767"/>
          <a:stretch/>
        </p:blipFill>
        <p:spPr>
          <a:xfrm>
            <a:off x="4191120" y="4038480"/>
            <a:ext cx="4678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Start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21345" t="27121" r="17639" b="18647"/>
          <a:stretch/>
        </p:blipFill>
        <p:spPr>
          <a:xfrm>
            <a:off x="1523880" y="251460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nce you are satisfied with the devices you will be using, click on "Start Recording" to begin the record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676520" y="3276720"/>
            <a:ext cx="91440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rcRect l="21876" t="33337" r="36722" b="20832"/>
          <a:stretch/>
        </p:blipFill>
        <p:spPr>
          <a:xfrm>
            <a:off x="2057400" y="2859120"/>
            <a:ext cx="4724280" cy="3922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8:Stop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Once you have completed your lecture, click on the "End Recording" butt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You will then be taken automatically to the "Manage Recordings" t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133720" y="3124080"/>
            <a:ext cx="106668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9: Manage Recordin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he Manage Recordings window will s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Recordings that are currently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Status/Link column show if the recording either the current status (processing, encoding,.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viewable link once it'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0:Share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371600" y="2971440"/>
            <a:ext cx="7122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Developed at Carnegie Mellon Universit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Product of years of advanced resear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Harnesses video, capture, stream, search and archival technologies in one packag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The Panopto team includes industry leading researchers and develope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About Panop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arefully select a topic within your curriculu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ink about “visual impact” and benefits of the data to be shared with the audienc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1: Select a Top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122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rganize your main ideas ahead of ti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Generate a list of key ideas and concepts you wish to discuss during your s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ther thoughts can be added “off the cuff” during the sessio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2:Create a Scrip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Laptop with Panoto Software install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bc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licker (optiona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77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Step 3: Equipment/Software Chec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1588680"/>
            <a:ext cx="8305920" cy="10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Go to Start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Programs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Record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Settings tab to log in to the CourseCast server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1876" t="21875" r="17968" b="28125"/>
          <a:stretch/>
        </p:blipFill>
        <p:spPr>
          <a:xfrm>
            <a:off x="1219320" y="2514600"/>
            <a:ext cx="64785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4" name="Rectangle 5"/>
          <p:cNvSpPr/>
          <p:nvPr/>
        </p:nvSpPr>
        <p:spPr>
          <a:xfrm>
            <a:off x="4191120" y="2666880"/>
            <a:ext cx="914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1588680"/>
            <a:ext cx="83059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the CourseCast Server name, Login, and Pass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Verify button. 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Save at the bottom of the Settings screen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22585" t="33199" r="35673" b="49828"/>
          <a:stretch/>
        </p:blipFill>
        <p:spPr>
          <a:xfrm>
            <a:off x="762120" y="3429000"/>
            <a:ext cx="724356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21876" t="25000" r="17968" b="39587"/>
          <a:stretch/>
        </p:blipFill>
        <p:spPr>
          <a:xfrm>
            <a:off x="609480" y="2666880"/>
            <a:ext cx="79376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0" name=""/>
          <p:cNvSpPr txBox="1"/>
          <p:nvPr/>
        </p:nvSpPr>
        <p:spPr>
          <a:xfrm>
            <a:off x="609480" y="182880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reate New Recording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ab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a Class</a:t>
            </a:r>
            <a:br>
              <a:rPr sz="1400"/>
            </a:br>
            <a:r>
              <a:rPr b="1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762120" y="5029200"/>
            <a:ext cx="9903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21876" t="31250" r="39844" b="50005"/>
          <a:stretch/>
        </p:blipFill>
        <p:spPr>
          <a:xfrm>
            <a:off x="1371600" y="3048120"/>
            <a:ext cx="62229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4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lass Name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Identifier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Chapter 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8:46Z</dcterms:created>
  <dc:creator>nschomp</dc:creator>
  <dc:description/>
  <dc:language>en-US</dc:language>
  <cp:lastModifiedBy>nschomp</cp:lastModifiedBy>
  <dcterms:modified xsi:type="dcterms:W3CDTF">2008-10-15T14:43:51Z</dcterms:modified>
  <cp:revision>26</cp:revision>
  <dc:subject/>
  <dc:title>Coursecast:user basics</dc:title>
</cp:coreProperties>
</file>