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EA6-C25C-48F8-800D-720B9E8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16A-166D-4BD8-BA6F-7C2BE1C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265-952A-45B6-BD95-C9580A9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E5C-83A9-4E6A-B97F-45F22171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3A73-AD8C-451F-B4B4-5580C2DA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829D-D67F-4AB6-B778-698E4F10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27AF-6C02-4734-B880-1FFFA898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000D-901A-4814-A23B-A5147825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32B7-9842-45CB-8B9F-DFFB3B85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D752-E24A-4F10-A2AF-507C0B8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3436-379B-4770-9793-E028BB0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365-BAFF-4A00-89B6-1B1EB0E6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A479-EAC9-4C1A-980C-17D9496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2A73-55E1-45E8-A3AE-AFB47DC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AA61-AD74-43E8-B0B8-64B1F4E9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720D-1F85-4872-B03D-5A11A759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F07-75DB-497A-96D6-8B517FA4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F6765-558A-4B01-B119-C244C426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86157-52BF-4BCB-B1DD-DC1F611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E01FF-4017-4791-B50B-B505CC8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847ED-D6CE-4619-B922-1802DE0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4D3E9-183A-4C4B-9240-9E44487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78B-73FF-4133-B6CA-AC417F6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6D8C8-382A-43AE-A591-6AACE94F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29D86-B5B7-4403-B01F-D16C2C1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C0E8D-EB8E-4579-A33B-0C916C5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5875B-E1AA-4BBE-A6EC-B27E2FC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4F893-833E-44B1-93EA-E3F1B64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45290-B64C-41F8-BB4F-E7A0AB70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3574D-DF42-41AE-997F-7CAD22DF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11319-7118-4BBA-A82A-1D15E0CE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A36F3-EEE7-4CC4-86E0-7C685FA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31A27-0212-4231-B175-C74B54DA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780-916C-4C12-93C9-F9D25BF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5F5D6-67E9-45A7-A56A-8EBB54F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4B4E4-7CA9-483C-B662-5742B1A7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8D8D3-2BC9-4EB6-B01B-752D5E39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F70DB-4873-4F73-87E1-29EEA38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119D2-ECED-4E36-ABC2-4B14184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9BBC1-83D0-45AD-A5A2-F3154C7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48BA5-3335-46E6-88F2-6F21657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4367C-DC0C-47C6-8BFD-DC46A336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2F3A2-849F-4576-9688-2DFDDBE7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A1751-965E-4A75-85A3-E55448F9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D5A-16B9-492A-B34A-8286CFA4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E5FF5-F2DC-44C8-8A75-230F6B47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1675C-F201-4347-8780-18B00FF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9B67D-C970-4F8F-A545-1767E21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95CEE-F38E-4221-89B8-089415C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D2C7C-24EC-4AD4-82B1-2BA73557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A8CD0-72FD-4727-8D62-24404E5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0E9B4-5358-4AFD-AC8F-27E23FF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AD2F9-ADB0-4724-91D9-E1A08FC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36A9-41FA-42CE-870F-836661F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77444-A963-4F67-8395-1BAFAB84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262-898B-46A0-87E1-A9ADC6F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124AD-C692-452A-BCB3-101B2B57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D0A2-C055-425F-A117-A20F6490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86B6-B187-4241-B54B-C335241F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E4EC-4969-4EEF-A2A4-9AB344C2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8644-5B31-4652-8A6D-567D6EAC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4F3F-590D-445B-BD94-F4FDA99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FF75-F881-4BB5-A984-4EFB2BB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925D6-F5F2-4663-B511-4187867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FC97-A98B-42A2-BC01-D587F90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8A48-46AF-4082-AD67-9C282B5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56A-DD40-423C-A170-309E965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4B1D-0C44-4774-ADB1-8229B8C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EF81-BE6B-47F7-9C8E-165C10FF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3D84-6CAF-482B-A6EC-6D6A61E6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B27FA-3237-466A-BBBE-C6A1CF88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1C327-6C2B-4A3A-92A7-8013A9C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7DFA2-B2BB-41EE-AFF6-47A55A9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C4DE6-9FDE-47BA-B671-DC8FBE6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52679-A13F-4C37-A170-0CCAD88D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082CD-6BBD-48C9-B65A-570841C9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DDFA2-A106-4130-8E00-7DB47C2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D41-56DE-4F6A-8D43-656EBDA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0A5B3-BDBF-4C6E-9633-A268859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35D31-DBA1-4532-B4E2-763185D4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8AFE2-57C6-4F71-ADBD-2ED1A80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27087-EAF4-4918-98D1-91497BD1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762EF-45D4-444D-A857-9F5F9AD3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DCCE-E8CD-4D66-B6B9-A32C1196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DB8B-1987-4BB0-901F-537B2EF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501F-6259-48B6-933C-475CE64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348B-4880-4017-AEDD-5F69001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22BBA-718C-44B9-885A-A296C8B7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250-9AAD-4678-A9B9-5C92C4E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CE86-6E5D-44A5-9BFA-58912A2A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62C28-97C2-4CE5-839E-D2123B0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FBD9-9DC2-44D9-BF8E-D4D6908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B02F-DCE8-442F-BD0F-2D5EDDD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8BEF-91D5-4D8A-9A92-0C87769C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83D9-09C2-4D5F-8C1F-303CA121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441A-E40C-418B-9094-5119E278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DDB-47F2-4C40-AAA0-5753E6F1E8D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818B-D3C3-48E8-ACAB-C2FA6A17719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C68-4262-4261-994A-EE59EA0B803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A058-8FDA-4686-903A-926CD058E27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321-5E07-48BE-83A8-0282CA62C1C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8CE7-AE96-468A-A7C4-632338B5C94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FC9-3B9C-47B4-8A4F-53336225751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183-1565-45F4-A688-CEA9421DE69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OURSECAST:USER BASIC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ornwall-Lebanon Technology Servi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2371680" y="426960"/>
            <a:ext cx="392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lect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New Lecture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bottom righ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1876" t="32293" r="17968" b="31250"/>
          <a:stretch/>
        </p:blipFill>
        <p:spPr>
          <a:xfrm>
            <a:off x="380880" y="2362320"/>
            <a:ext cx="8213760" cy="37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Rectangle 5"/>
          <p:cNvSpPr/>
          <p:nvPr/>
        </p:nvSpPr>
        <p:spPr>
          <a:xfrm>
            <a:off x="7086600" y="525780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ourse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22655" t="30212" r="18750" b="28125"/>
          <a:stretch/>
        </p:blipFill>
        <p:spPr>
          <a:xfrm>
            <a:off x="1295280" y="3048120"/>
            <a:ext cx="6477120" cy="345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1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ype the name of the lecture-Ex. Ancient Egyp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Record to New Le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943600" y="563868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vailable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761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Left side of the screen displays all available devices for the Coursec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Devices include cameras, audio inputs, screen capture, power point and remote de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ick on the device(s) you wish to use in your recor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LSD teachers should include a microphone (audio), a camera (video)and PowerPoint in their 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1"/>
          <a:srcRect l="23438" t="27087" r="63282" b="19793"/>
          <a:stretch/>
        </p:blipFill>
        <p:spPr>
          <a:xfrm>
            <a:off x="7010280" y="1523880"/>
            <a:ext cx="171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Aud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audio device and test it by using the Audio Level Meter provid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rcRect l="21876" t="34326" r="41406" b="32293"/>
          <a:stretch/>
        </p:blipFill>
        <p:spPr>
          <a:xfrm>
            <a:off x="1371600" y="2514600"/>
            <a:ext cx="60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 Vide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599840"/>
            <a:ext cx="8531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Choose your video device (webcam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e first video source you select will be the main video during play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PPT Sele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599840"/>
            <a:ext cx="8766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o include PowerPoint presentations in your recording, click on the PowerPoint device in the left-hand column and it will open a box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5f55"/>
                </a:solidFill>
                <a:latin typeface="Tw Cen MT"/>
              </a:rPr>
              <a:t>This box will allow you to open a .ppt file or, if PowerPoint is already running, allow you to include the presentation that is op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rcRect l="22655" t="54311" r="50109" b="26767"/>
          <a:stretch/>
        </p:blipFill>
        <p:spPr>
          <a:xfrm>
            <a:off x="4191120" y="4038480"/>
            <a:ext cx="4678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7:Start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21345" t="27121" r="17639" b="18647"/>
          <a:stretch/>
        </p:blipFill>
        <p:spPr>
          <a:xfrm>
            <a:off x="1523880" y="251460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nce you are satisfied with the devices you will be using, click on "Start Recording" to begin the record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676520" y="3276720"/>
            <a:ext cx="91440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rcRect l="21876" t="33337" r="36722" b="20832"/>
          <a:stretch/>
        </p:blipFill>
        <p:spPr>
          <a:xfrm>
            <a:off x="2057400" y="2859120"/>
            <a:ext cx="4724280" cy="3922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8:Stop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Once you have completed your lecture, click on the "End Recording" butt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You will then be taken automatically to the "Manage Recordings" t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133720" y="3124080"/>
            <a:ext cx="106668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9: Manage Recordin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he Manage Recordings window will sh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Recordings that are currently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Status/Link column show if the recording either the current status (processing, encoding,.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  <a:ea typeface="Arial"/>
              </a:rPr>
              <a:t>The viewable link once it'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0:Share a Recor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Content Placeholder 2"/>
          <p:cNvSpPr/>
          <p:nvPr/>
        </p:nvSpPr>
        <p:spPr>
          <a:xfrm>
            <a:off x="0" y="1600200"/>
            <a:ext cx="876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371600" y="2971440"/>
            <a:ext cx="7122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Developed at Carnegie Mellon Universit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Product of years of advanced resear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Harnesses video, capture, stream, search and archival technologies in one packag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5f55"/>
                </a:solidFill>
                <a:latin typeface="Tw Cen MT"/>
              </a:rPr>
              <a:t>The Panopto team includes industry leading researchers and develope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About Panop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arefully select a topic within your curriculu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Think about “visual impact” and benefits of the data to be shared with the audienc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1: Select a Topi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122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rganize your main ideas ahead of ti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Generate a list of key ideas and concepts you wish to discuss during your ses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Other thoughts can be added “off the cuff” during the sessio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Step 2:Create a Scrip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Laptop with Panoto Software install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ebc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Clicker (optiona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770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Step 3: Equipment/Software Chec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1588680"/>
            <a:ext cx="8305920" cy="10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Go to Start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Programs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Panopto Record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Settings tab to log in to the CourseCast server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1876" t="21875" r="17968" b="28125"/>
          <a:stretch/>
        </p:blipFill>
        <p:spPr>
          <a:xfrm>
            <a:off x="1219320" y="2514600"/>
            <a:ext cx="64785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4" name="Rectangle 5"/>
          <p:cNvSpPr/>
          <p:nvPr/>
        </p:nvSpPr>
        <p:spPr>
          <a:xfrm>
            <a:off x="4191120" y="2666880"/>
            <a:ext cx="9144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Connect to the Serv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1588680"/>
            <a:ext cx="83059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the CourseCast Server name, Login, and Passwo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on the Verify button. 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Click Save at the bottom of the Settings screen.</a:t>
            </a:r>
            <a:br>
              <a:rPr sz="1400"/>
            </a:b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22585" t="33199" r="35673" b="49828"/>
          <a:stretch/>
        </p:blipFill>
        <p:spPr>
          <a:xfrm>
            <a:off x="762120" y="3429000"/>
            <a:ext cx="724356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21876" t="25000" r="17968" b="39587"/>
          <a:stretch/>
        </p:blipFill>
        <p:spPr>
          <a:xfrm>
            <a:off x="609480" y="2666880"/>
            <a:ext cx="79376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0" name=""/>
          <p:cNvSpPr txBox="1"/>
          <p:nvPr/>
        </p:nvSpPr>
        <p:spPr>
          <a:xfrm>
            <a:off x="609480" y="182880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reate New Recording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Tab</a:t>
            </a:r>
            <a:r>
              <a:rPr b="0" lang="en-US" sz="2400" spc="-1" strike="noStrike">
                <a:solidFill>
                  <a:srgbClr val="775f55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Add a Class</a:t>
            </a:r>
            <a:br>
              <a:rPr sz="1400"/>
            </a:br>
            <a:r>
              <a:rPr b="1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762120" y="5029200"/>
            <a:ext cx="9903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Add a Class/Le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21876" t="31250" r="39844" b="50005"/>
          <a:stretch/>
        </p:blipFill>
        <p:spPr>
          <a:xfrm>
            <a:off x="1371600" y="3048120"/>
            <a:ext cx="62229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4" name=""/>
          <p:cNvSpPr txBox="1"/>
          <p:nvPr/>
        </p:nvSpPr>
        <p:spPr>
          <a:xfrm>
            <a:off x="609480" y="18288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Class Name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Enter an </a:t>
            </a: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Identifier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: Chapter 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8:46Z</dcterms:created>
  <dc:creator>nschomp</dc:creator>
  <dc:description/>
  <dc:language>en-US</dc:language>
  <cp:lastModifiedBy>nschomp</cp:lastModifiedBy>
  <dcterms:modified xsi:type="dcterms:W3CDTF">2008-10-15T14:43:51Z</dcterms:modified>
  <cp:revision>26</cp:revision>
  <dc:subject/>
  <dc:title>Coursecast:user basics</dc:title>
</cp:coreProperties>
</file>